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CEF-084A-4D25-9190-DB64BBB82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11A5-6D58-46B0-A268-21A294328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8B42-938C-4B61-9411-458B0210C6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catarac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to remove the catar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6F5E-9BC2-4B51-B3E0-DF5B00B295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glaucoma is left untre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ymptoms of glaucom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surgery is needed to create opening in the iri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C8EB-868E-4EE4-8027-D90221D87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ed to be age-related. Genetic factors and exposure to bright light are also rel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ular degeneration is the most common cause of blindness in the United State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 cure for macular degenera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reat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A15D-38CE-4182-96A4-53973E241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s 8-10 years after onset of diabetes mellitus, especially those with poor glucose contro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diabetic retinopathy?</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811-E673-486B-8925-386D36FAA8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symptom is dark shadow from periphery extending inwar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the retina to detach?</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surgical treatment is needed to reattach and prevent extension of t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otherapy can be used to treat tears without detachment.</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1FAD-8EA3-429A-AB1B-9FDD4DA717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BBEA-E990-4EEC-87A7-76D8579101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hearing, what other functions do ears perform?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blems would prevent the relay of sound from the outer ear to the inner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hearing can occur with problems in any of these physiologic step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5471-AECE-41F4-B568-DDAB85F69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causes of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rugs or medications can cause hearing problems (e.g., aspirin, loop diuretics, chemotherapy agent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nvironmental chemicals can cause permanent hearing loss (e.g., hexane, xylen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684F-3980-4AE2-AF9F-CF8CDB929B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wimmer’s ear? Is it actually caused by swimm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lerosis is an abnormal bony growth in the middle ear.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es otosclerosis usually aff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5811-EBA9-4CAC-9961-471F850D8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caused cerumen accumulation, seborrhea, psoriasis, trauma to the ear canal.</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of infective otitis exter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C14D-721A-4CB7-9654-35E3518EE0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orders of vision can occur with problems in any of these physiologic step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rods and cones and what is their func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BA34-D8BD-4634-973D-EFC3091A97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reason for visits to doctor by children.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ot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urative otitis is painful, and general symptoms of infection are present. It is caused by bacteria that enters through the nose, throat or ruptured tympanic membrane. Allergic response of the eustachian tube with swelling is sometimes responsi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7599-B4FE-4DB1-98BC-8285AD91D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oscope reveals inflamed tympanic membrane that may be bulging from fluid accumulation behind i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ringotomy tubes may be inserted to prevent fluid from reaccumulating.</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ophied adenoids may need to be removed if condition becomes chroni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DC05-C26A-43DD-90BC-DDCE301F9C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ause of M</a:t>
            </a:r>
            <a:r>
              <a:rPr b="0" lang="en-US" sz="1200" spc="-1" strike="noStrike">
                <a:solidFill>
                  <a:srgbClr val="000000"/>
                </a:solidFill>
                <a:latin typeface="Arial"/>
              </a:rPr>
              <a:t>é</a:t>
            </a:r>
            <a:r>
              <a:rPr b="0" lang="en-US" sz="1200" spc="-1" strike="noStrike">
                <a:solidFill>
                  <a:srgbClr val="000000"/>
                </a:solidFill>
                <a:latin typeface="Times New Roman"/>
              </a:rPr>
              <a:t>ni</a:t>
            </a:r>
            <a:r>
              <a:rPr b="0" lang="en-US" sz="1200" spc="-1" strike="noStrike">
                <a:solidFill>
                  <a:srgbClr val="000000"/>
                </a:solidFill>
                <a:latin typeface="Arial"/>
              </a:rPr>
              <a:t>è</a:t>
            </a:r>
            <a:r>
              <a:rPr b="0" lang="en-US" sz="1200" spc="-1" strike="noStrike">
                <a:solidFill>
                  <a:srgbClr val="000000"/>
                </a:solidFill>
                <a:latin typeface="Times New Roman"/>
              </a:rPr>
              <a:t>re disease?</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presents between 40-50 yea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usea and vomiting, sweating, and loss of balance can accompany the vertigo.</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D9F5-EF58-4BAB-AA45-B8D44C577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symptoms of labyrinthiti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embranes get ruptur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ssue graft may be indicated, tympanoplasty, to repair the ruptured membran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26D1-C6ED-448A-AD93-DB7371042C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occur spontaneously and suddenly or have a slow onset.</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ermed “occupational hearing los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treatment for sensorineural hearing los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428C-FEA6-4BDC-B8BE-EAAE00BB0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extrinsic eye muscles control coordinated movements.</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5685-D239-490D-A2B8-812574639E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ye disorders can be part of other systemic disease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non-vision related symptoms that may indicate problems with the ey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3FD3-E3E2-4C45-81A0-9F2AA54AF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visual disturbances or changes would require immediate medical attention?</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FB50-449D-41FD-8F14-9229DD55AA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gns and symptoms of refractive errors?</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requires fitting with artificial lenses (glasses, contact lenses) or surgical correction.</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hyperopia?</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yeball shape in myopi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5C7F-7C73-4C45-9EDD-C9540FF406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tigmatism, cornea is not spherical and light rays are diffused unevenly.</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esbyopia?</a:t>
            </a: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20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7827-2D94-4782-AB7B-026E72A2BA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uses Nystagmus?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bismus can develop in infancy or early childhood. By what age, if treated, is it reversible? </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ults, underlying conditions such as hypertension, diabetes, or head injury causes problems with eye muscles or related cranial nerves. Condition may or may not be correct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4A9A-77E3-4216-A089-436103EDCE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junctiva? Where are they located?</a:t>
            </a:r>
            <a:endParaRPr b="0" lang="en-US" sz="1200" spc="-1" strike="noStrike">
              <a:solidFill>
                <a:srgbClr val="000000"/>
              </a:solidFill>
              <a:latin typeface="Times New Roman"/>
            </a:endParaRPr>
          </a:p>
          <a:p>
            <a:pPr marL="12060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reated with antibiotics or antiviral drugs, if severe. Usually, self-limited and resolves within 1-2 wee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2"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4"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6"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2"/>
          <p:cNvSpPr>
            <a:spLocks noGrp="1"/>
          </p:cNvSpPr>
          <p:nvPr>
            <p:ph type="subTitle"/>
          </p:nvPr>
        </p:nvSpPr>
        <p:spPr>
          <a:xfrm>
            <a:off x="685800" y="1465200"/>
            <a:ext cx="7772400" cy="4454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5"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p:nvPr>
        </p:nvSpPr>
        <p:spPr>
          <a:xfrm>
            <a:off x="685800" y="146520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1" name="PlaceHolder 2"/>
          <p:cNvSpPr>
            <a:spLocks noGrp="1"/>
          </p:cNvSpPr>
          <p:nvPr>
            <p:ph/>
          </p:nvPr>
        </p:nvSpPr>
        <p:spPr>
          <a:xfrm>
            <a:off x="685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1380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41440" y="146520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685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1380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41440" y="3792240"/>
            <a:ext cx="250236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2"/>
          <p:cNvSpPr>
            <a:spLocks noGrp="1"/>
          </p:cNvSpPr>
          <p:nvPr>
            <p:ph/>
          </p:nvPr>
        </p:nvSpPr>
        <p:spPr>
          <a:xfrm>
            <a:off x="685800" y="1465200"/>
            <a:ext cx="77724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8580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2"/>
          <p:cNvSpPr>
            <a:spLocks noGrp="1"/>
          </p:cNvSpPr>
          <p:nvPr>
            <p:ph/>
          </p:nvPr>
        </p:nvSpPr>
        <p:spPr>
          <a:xfrm>
            <a:off x="685800" y="1465200"/>
            <a:ext cx="3792600" cy="4454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68480" y="379224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2"/>
          <p:cNvSpPr>
            <a:spLocks noGrp="1"/>
          </p:cNvSpPr>
          <p:nvPr>
            <p:ph/>
          </p:nvPr>
        </p:nvSpPr>
        <p:spPr>
          <a:xfrm>
            <a:off x="68580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465200"/>
            <a:ext cx="37926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85800" y="3792240"/>
            <a:ext cx="7772400" cy="212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5"/>
          <p:cNvSpPr/>
          <p:nvPr/>
        </p:nvSpPr>
        <p:spPr>
          <a:xfrm>
            <a:off x="0" y="6384960"/>
            <a:ext cx="914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sevier items and derived items © 2009 by Saunders, an imprint of Elsevier Inc.</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0" name="PlaceHolder 2"/>
          <p:cNvSpPr>
            <a:spLocks noGrp="1"/>
          </p:cNvSpPr>
          <p:nvPr>
            <p:ph type="body"/>
          </p:nvPr>
        </p:nvSpPr>
        <p:spPr>
          <a:xfrm>
            <a:off x="685800" y="146520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914400" y="2363760"/>
            <a:ext cx="7315200" cy="182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3200" spc="-1" strike="noStrike">
                <a:solidFill>
                  <a:srgbClr val="ffff00"/>
                </a:solidFill>
                <a:latin typeface="Arial"/>
              </a:rPr>
              <a:t>Diseases and Disorders of the Eye and E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act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y area in the len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acity blocks light from reaching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develop slowl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ual reduction of visio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aucom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to the optic nerve caused by elevated intraocula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angle vs. closed-angl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ajor cause of blin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after age 60, but can occur at any ag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ular Degenera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essive deterioration in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start with mild distortion of central vision and progress to complete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s to central vision blindness</a:t>
            </a:r>
            <a:endParaRPr b="0" lang="en-US" sz="2400" spc="-1" strike="noStrike">
              <a:solidFill>
                <a:srgbClr val="ffffff"/>
              </a:solidFill>
              <a:latin typeface="Arial"/>
            </a:endParaRPr>
          </a:p>
        </p:txBody>
      </p:sp>
      <p:sp>
        <p:nvSpPr>
          <p:cNvPr id="10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betic Retinopathy</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by small hemorrhages and newly formed vessel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visual clarity</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both eyes are affecte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cause of blindnes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inal Detachment</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on of the retina from the choroid</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sudden and painl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symptoms are seeing light flashes and floater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common with nearsighted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in blindness if untreat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orders of the Globe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666880"/>
            <a:ext cx="73152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5</a:t>
            </a:r>
            <a:br>
              <a:rPr sz="3200"/>
            </a:br>
            <a:r>
              <a:rPr b="0" lang="en-US" sz="2800" spc="-1" strike="noStrike">
                <a:solidFill>
                  <a:srgbClr val="ffff00"/>
                </a:solidFill>
                <a:latin typeface="Arial"/>
              </a:rPr>
              <a:t>Lesson 5.2</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a:t>
            </a:r>
            <a:endParaRPr b="0" lang="en-US" sz="3600" spc="-1" strike="noStrike">
              <a:solidFill>
                <a:srgbClr val="ffff00"/>
              </a:solidFill>
              <a:latin typeface="Arial"/>
            </a:endParaRPr>
          </a:p>
        </p:txBody>
      </p:sp>
      <p:sp>
        <p:nvSpPr>
          <p:cNvPr id="11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ing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ory or sound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sound/vibration to inner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tiny hairs in cochle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pain or pressur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or buzzing noise (tinnit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go or dizzines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 and vomiting</a:t>
            </a:r>
            <a:endParaRPr b="0" lang="en-US" sz="2400" spc="-1" strike="noStrike">
              <a:solidFill>
                <a:srgbClr val="ffffff"/>
              </a:solidFill>
              <a:latin typeface="Arial"/>
            </a:endParaRPr>
          </a:p>
        </p:txBody>
      </p:sp>
      <p:sp>
        <p:nvSpPr>
          <p:cNvPr id="115"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Hearing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a:t>
            </a:r>
            <a:endParaRPr b="0" lang="en-US" sz="3600" spc="-1" strike="noStrike">
              <a:solidFill>
                <a:srgbClr val="ffff00"/>
              </a:solidFill>
              <a:latin typeface="Arial"/>
            </a:endParaRPr>
          </a:p>
        </p:txBody>
      </p:sp>
      <p:sp>
        <p:nvSpPr>
          <p:cNvPr id="11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orders of Conduc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acted cerume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ve otitis exter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mmer’s ear</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itis medi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oscler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1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ve Otitis Extern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external ear canal with signs and symptoms of: </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swollen canal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ch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ing los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a:t>
            </a:r>
            <a:endParaRPr b="0" lang="en-US" sz="3600" spc="-1" strike="noStrike">
              <a:solidFill>
                <a:srgbClr val="ffff00"/>
              </a:solidFill>
              <a:latin typeface="Arial"/>
            </a:endParaRPr>
          </a:p>
        </p:txBody>
      </p:sp>
      <p:sp>
        <p:nvSpPr>
          <p:cNvPr id="86"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require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timul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 of light/image to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ion of rods and cones in the retina</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conducted to b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1"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itis Media</a:t>
            </a:r>
            <a:endParaRPr b="0" lang="en-US" sz="32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middle ear with signs and symptoms of:</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of fullness or pressure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ired hear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 often sever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inage, watery or purulent</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usea and vomiting</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zzine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3"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itis Media</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includes:</a:t>
            </a:r>
            <a:endParaRPr b="0" lang="en-US" sz="24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gesics for pain relief</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ongestants to promote drainage</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tics (for suppurative otitis)</a:t>
            </a:r>
            <a:endParaRPr b="0" lang="en-US" sz="2000" spc="-1" strike="noStrike">
              <a:solidFill>
                <a:srgbClr val="ffffff"/>
              </a:solidFill>
              <a:latin typeface="Arial"/>
            </a:endParaRPr>
          </a:p>
          <a:p>
            <a:pPr lvl="2" marL="1143000" indent="-228600">
              <a:spcBef>
                <a:spcPts val="499"/>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ringotomy: surgical removal of the fluid in severe case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5"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énière Disease</a:t>
            </a:r>
            <a:endParaRPr b="0" lang="en-US" sz="24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disease of the inner ear</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drome includes: vertigo, tinnitus, progressive hearing loss and sensation of pressure</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dden onset of episodes (vertigo, tinnitus, etc.)</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tion of hours to days </a:t>
            </a:r>
            <a:endParaRPr b="0" lang="en-US" sz="20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s symptomatic relief, not curativ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7"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yrinth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labyrinth usually from viral or bacterial infection; can result from meningiti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ptured tympanic membran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r or injury resulting from pressure, untreated middle ear infection, force or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ar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29"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ineural Hearing Los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impulses not transmitted to the brain due to damage to the cochlea or auditory nerv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ing loss can result from loud music, industrial noise, nearby explosion, medications, the aging process, and certain other caus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eversible, so prevention is essent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ormal Eye</a:t>
            </a:r>
            <a:endParaRPr b="0" lang="en-US" sz="3600" spc="-1" strike="noStrike">
              <a:solidFill>
                <a:srgbClr val="ffff00"/>
              </a:solidFill>
              <a:latin typeface="Arial"/>
            </a:endParaRPr>
          </a:p>
        </p:txBody>
      </p:sp>
      <p:pic>
        <p:nvPicPr>
          <p:cNvPr id="88" name="Picture 12" descr="W0256-05-01a"/>
          <p:cNvPicPr/>
          <p:nvPr/>
        </p:nvPicPr>
        <p:blipFill>
          <a:blip r:embed="rId1"/>
          <a:stretch/>
        </p:blipFill>
        <p:spPr>
          <a:xfrm>
            <a:off x="685800" y="1515960"/>
            <a:ext cx="7772400" cy="435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disturbances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qual pupils or sudden loss of vis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istent pain </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ching or burning in or around the eyes</a:t>
            </a:r>
            <a:endParaRPr b="0" lang="en-US" sz="2400" spc="-1" strike="noStrike">
              <a:solidFill>
                <a:srgbClr val="ffffff"/>
              </a:solidFill>
              <a:latin typeface="Arial"/>
            </a:endParaRPr>
          </a:p>
        </p:txBody>
      </p:sp>
      <p:sp>
        <p:nvSpPr>
          <p:cNvPr id="90"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1465200"/>
            <a:ext cx="7772400" cy="445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need medical attention</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ollen, red eyelid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ness of the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inage or exudat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ions/sor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eye movement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unctioning Organs of Vision </a:t>
            </a:r>
            <a:r>
              <a:rPr b="0" lang="en-US" sz="1800" spc="-1" strike="noStrike">
                <a:solidFill>
                  <a:srgbClr val="ffff00"/>
                </a:solidFill>
                <a:latin typeface="Arial"/>
              </a:rPr>
              <a:t>(cont’d.)</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
        <p:nvSpPr>
          <p:cNvPr id="94" name="PlaceHolder 2"/>
          <p:cNvSpPr>
            <a:spLocks noGrp="1"/>
          </p:cNvSpPr>
          <p:nvPr>
            <p:ph/>
          </p:nvPr>
        </p:nvSpPr>
        <p:spPr>
          <a:xfrm>
            <a:off x="685800" y="1464840"/>
            <a:ext cx="7772400" cy="297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ive Errors</a:t>
            </a:r>
            <a:endParaRPr b="0" lang="en-US" sz="28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opia (F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behind the retina, which impairs near vision</a:t>
            </a:r>
            <a:endParaRPr b="0" lang="en-US" sz="2000" spc="-1" strike="noStrike">
              <a:solidFill>
                <a:srgbClr val="ffffff"/>
              </a:solidFill>
              <a:latin typeface="Arial"/>
            </a:endParaRPr>
          </a:p>
          <a:p>
            <a:pPr marL="343080" indent="-343080">
              <a:spcBef>
                <a:spcPts val="700"/>
              </a:spcBef>
              <a:buClr>
                <a:srgbClr val="ffff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pia (Nearsightedness)</a:t>
            </a:r>
            <a:endParaRPr b="0" lang="en-US" sz="2800" spc="-1" strike="noStrike">
              <a:solidFill>
                <a:srgbClr val="ffffff"/>
              </a:solidFill>
              <a:latin typeface="Arial"/>
            </a:endParaRPr>
          </a:p>
          <a:p>
            <a:pPr lvl="1" marL="743040" indent="-28584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 focused in front of the retina, which impairs far vi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ve Errors </a:t>
            </a:r>
            <a:endParaRPr b="0" lang="en-US" sz="32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igmatism</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focused unevenly onto the retina, which causes blurred areas</a:t>
            </a:r>
            <a:endParaRPr b="0" lang="en-US" sz="2400" spc="-1" strike="noStrike">
              <a:solidFill>
                <a:srgbClr val="ffffff"/>
              </a:solidFill>
              <a:latin typeface="Arial"/>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opia</a:t>
            </a:r>
            <a:endParaRPr b="0" lang="en-US" sz="2800" spc="-1" strike="noStrike">
              <a:solidFill>
                <a:srgbClr val="ffffff"/>
              </a:solidFill>
              <a:latin typeface="Arial"/>
            </a:endParaRPr>
          </a:p>
          <a:p>
            <a:pPr lvl="2" marL="1143000" indent="-228600">
              <a:spcBef>
                <a:spcPts val="601"/>
              </a:spcBef>
              <a:buClr>
                <a:srgbClr val="ffff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cannot focus quickly to accommodate changes in distance</a:t>
            </a:r>
            <a:endParaRPr b="0" lang="en-US" sz="2400" spc="-1" strike="noStrike">
              <a:solidFill>
                <a:srgbClr val="ffffff"/>
              </a:solidFill>
              <a:latin typeface="Arial"/>
            </a:endParaRPr>
          </a:p>
        </p:txBody>
      </p:sp>
      <p:sp>
        <p:nvSpPr>
          <p:cNvPr id="96"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98"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tag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luntary, repetitive, rhythmic movements of one or both eyes</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bismu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of the eyes to look together in the same dir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orders of the Eyelid </a:t>
            </a:r>
            <a:r>
              <a:rPr b="0" lang="en-US" sz="1800" spc="-1" strike="noStrike">
                <a:solidFill>
                  <a:srgbClr val="ffff00"/>
                </a:solidFill>
                <a:latin typeface="Arial"/>
              </a:rPr>
              <a:t>(cont’d.)</a:t>
            </a:r>
            <a:endParaRPr b="0" lang="en-US" sz="1800" spc="-1" strike="noStrike">
              <a:solidFill>
                <a:srgbClr val="ffff00"/>
              </a:solidFill>
              <a:latin typeface="Arial"/>
            </a:endParaRPr>
          </a:p>
        </p:txBody>
      </p:sp>
      <p:sp>
        <p:nvSpPr>
          <p:cNvPr id="100" name="PlaceHolder 2"/>
          <p:cNvSpPr>
            <a:spLocks noGrp="1"/>
          </p:cNvSpPr>
          <p:nvPr>
            <p:ph/>
          </p:nvPr>
        </p:nvSpPr>
        <p:spPr>
          <a:xfrm>
            <a:off x="685800" y="1465200"/>
            <a:ext cx="7772400" cy="445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junctivitis</a:t>
            </a:r>
            <a:endParaRPr b="0" lang="en-US" sz="28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of the conjunctiva in one or both eye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ous discharge from the eye</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caused by viral or bacterial infection</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y contagious</a:t>
            </a:r>
            <a:endParaRPr b="0" lang="en-US" sz="2400" spc="-1" strike="noStrike">
              <a:solidFill>
                <a:srgbClr val="ffffff"/>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pink ey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2:12:38Z</dcterms:created>
  <dc:creator>Michael &amp; Eleftheria Parafink</dc:creator>
  <dc:description/>
  <dc:language>en-US</dc:language>
  <cp:lastModifiedBy>mflanagan</cp:lastModifiedBy>
  <dcterms:modified xsi:type="dcterms:W3CDTF">2011-06-22T22:06:27Z</dcterms:modified>
  <cp:revision>82</cp:revision>
  <dc:subject/>
  <dc:title>Diseases and Disorders of the Eye and Ear</dc:title>
</cp:coreProperties>
</file>